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43D-223F-406C-A3A3-03CE422D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A3ED-AC05-467E-ABBB-3FDDF14C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361-0765-432C-AB11-92011693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9C3-B144-4B8A-9894-D4A60D03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2AE-8F27-4F01-9503-65E52D45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A2D-EC54-4927-820D-7C5C4319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66A-AD50-4ADA-A901-19C4EC32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F43-03B4-404B-A878-F18B2164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52C-69A3-4A8E-BD20-F2B61758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E13-A554-4458-832E-583C6BD6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9E2-3D2E-453D-AED6-6A53275C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219-C1C5-4036-B6A7-EF3E49DE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EAC2-50A6-49E2-9326-F88EF99AB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167616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648320"/>
            <a:ext cx="1067040" cy="99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76520"/>
            <a:ext cx="1067040" cy="990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666880"/>
            <a:ext cx="106704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65760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960" y="565632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63868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563868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5638680"/>
            <a:ext cx="106704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5638680"/>
            <a:ext cx="106668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4648320"/>
            <a:ext cx="106668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365760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266688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676520"/>
            <a:ext cx="106668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68580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685800"/>
            <a:ext cx="106668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685800"/>
            <a:ext cx="106704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8580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68320" y="2660760"/>
            <a:ext cx="3014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iger Math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324480" y="2895480"/>
            <a:ext cx="2819520" cy="1600200"/>
            <a:chOff x="6324480" y="2895480"/>
            <a:chExt cx="2819520" cy="1600200"/>
          </a:xfrm>
        </p:grpSpPr>
        <p:sp>
          <p:nvSpPr>
            <p:cNvPr id="61" name=""/>
            <p:cNvSpPr/>
            <p:nvPr/>
          </p:nvSpPr>
          <p:spPr>
            <a:xfrm>
              <a:off x="6400800" y="3200040"/>
              <a:ext cx="2590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am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24480" y="2895480"/>
              <a:ext cx="281952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8839080" y="892080"/>
            <a:ext cx="914400" cy="60984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5960" y="273852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92360" y="569448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93720" y="4695840"/>
            <a:ext cx="922320" cy="884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841920" y="569448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917960" y="4735440"/>
            <a:ext cx="1020960" cy="84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917960" y="2738520"/>
            <a:ext cx="1020960" cy="84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4879800" y="817560"/>
            <a:ext cx="1020960" cy="844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7029360" y="741240"/>
            <a:ext cx="1020960" cy="844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2036880" y="3889440"/>
            <a:ext cx="26496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3657600"/>
            <a:ext cx="1067040" cy="990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685800"/>
            <a:ext cx="10670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1676520"/>
            <a:ext cx="106704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66688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648320"/>
            <a:ext cx="1067040" cy="99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63868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563868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63868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5638680"/>
            <a:ext cx="106704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4648320"/>
            <a:ext cx="106704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3657600"/>
            <a:ext cx="1067040" cy="990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666880"/>
            <a:ext cx="106704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676520"/>
            <a:ext cx="106704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685800"/>
            <a:ext cx="106704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68580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68580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68580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3657600"/>
            <a:ext cx="167616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2666880"/>
            <a:ext cx="106704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1676520"/>
            <a:ext cx="1067040" cy="990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2666880"/>
            <a:ext cx="1066680" cy="990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66688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2895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2895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10800" y="4849920"/>
            <a:ext cx="1187280" cy="1447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457200" y="8985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77940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076400" y="273852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116000" y="473544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190600" y="5694480"/>
            <a:ext cx="1020960" cy="84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303800" y="569448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4264200" y="373680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4264200" y="173988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5378400" y="779400"/>
            <a:ext cx="1020960" cy="84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7529400" y="779400"/>
            <a:ext cx="1020960" cy="84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7491240" y="2698920"/>
            <a:ext cx="1020960" cy="84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7107120" y="4465800"/>
            <a:ext cx="18147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02:40:31Z</dcterms:created>
  <dc:creator>Connie Campbell</dc:creator>
  <dc:description/>
  <dc:language>en-US</dc:language>
  <cp:lastModifiedBy>Kathy</cp:lastModifiedBy>
  <dcterms:modified xsi:type="dcterms:W3CDTF">2010-02-07T03:20:27Z</dcterms:modified>
  <cp:revision>7</cp:revision>
  <dc:subject/>
  <dc:title>Slide 1</dc:title>
</cp:coreProperties>
</file>